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04F-19AD-45C8-9318-D4A3B938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2C5-1D96-4E53-98F8-08C599B1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7DE7B-0D53-4C01-BF88-771EC78E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9CA53-099C-4788-AB4A-93489292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D0559-5466-419A-B563-6DC4BC49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E2080-E6FF-4261-8DC9-8DAB611F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D27BE-B04A-4C9E-B4F8-8CA821F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B8AB5-C027-4F7E-A292-FDB3438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97A40-2D2F-442C-96AE-D227B36E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7B8AD-4483-4D80-9D89-135B5666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86D80-96BA-4DEE-9939-325E1C6F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47C01-E14B-4A35-90F8-AA0FEE28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14E-A7E5-4D44-8F1A-AE23E55A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FE9A3-AA55-4BAC-833D-B85A5C9B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FE22D-3D3C-429A-96A7-9D4C2840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32CB3-BE91-4878-B759-1F98A718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C6078-A665-4AF2-BF2B-D14764F7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71FE5-0DD8-4BE6-B7CE-FAAE0B6F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82FD8-5F9C-4603-B0D4-BDA5BEF9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BDB27-7096-4732-A481-1475BE48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63610-CD99-4703-B7C5-55B9DC4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D4593-B49E-4B30-94ED-E97A9A8F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D4BA6-1539-4A97-8531-E30269CE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BC0-DEC8-4846-8034-78B2C9EC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9F7EA-0BB6-4AD1-9ABD-732D7908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E36AA-C1EC-4153-9F2D-54E85B10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916A4-930F-4CF9-A64F-61480D47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274B5-999C-46B7-A95B-68477AB9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86065-301A-4B1E-AB1B-B89EF3E4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7F81B-1A4F-408A-B88D-EC1433A3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3ED5D-B2C6-4802-9B77-C89C50D1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EBAED-D378-4042-8EAF-E5E81266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50033-78AA-4EE4-934B-E36D343F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11192-53E6-470F-A941-31C16F7A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5446-EFD4-4E02-8BFF-284432A9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0371E-CD66-4FC7-BC23-1101C8FD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BA9C0-03BA-4A17-8ACA-7F9FF553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B3095-A292-472A-B3C8-8EF9AD48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50100-D98A-4DF0-958B-727FD116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69209-8974-48F9-A44C-7B76CD8A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F885D-C8E7-4920-9F54-8F4E420C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67229-01E6-49ED-911C-1E03FC53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BDCD4-C993-4A74-983D-CDF517FC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66EE0-2282-4EFA-80AE-3E88FC15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7E7F8-BACE-4FAE-AFF5-A747B847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4B15-5F19-4464-B722-77B22D76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E438D-53F7-429D-80B9-85044374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7F8C2-0CD6-4C93-A318-97227574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74495-B822-48EB-B006-80D2514D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226AB-65EB-4D8D-B6B9-944C4071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DC8F4-4A86-4F22-A0CD-92107B7C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73B0A-D437-4FF0-A562-0AAFC2E0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C06DB-54E9-4DDC-A999-CE44E994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9800D-2303-4105-8819-143A5A5E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F3035-75FF-4CB7-9251-1D72E927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5C758-387F-49E9-B93D-FD44A330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1DFD-3F9D-49C4-BB9C-6FA0DE3C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485F2-443B-4C8E-9FA1-FB4E0E56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55C75-B0D9-488B-AAE8-D75F53FC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B20F1-5F2F-4A7F-A3C0-82A8F4EE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3641B-06D6-41F5-855D-0E45E887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01D25-891E-4564-8C9B-D2E4BE32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CE644-7084-40D8-853C-A394343A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8A31C-4B02-4673-9C58-82D63141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45BEA-9BBE-438D-9A57-260E7116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9CC3B-CC1D-4DB8-8BCF-44E1A484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DD2B5-B9D1-4AD7-AF06-BDE8BEAC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5DA9-A79B-4636-8500-221A2A81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A214A-7400-4EEA-8744-00B50006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AF7BD-2C32-4D8D-8275-1EF33255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4646E-7F5F-491D-B4FB-287ACED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303FB-20CE-4826-AA98-292F9323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28B3D-2BE9-44DD-A209-F554CE68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8D83A-E159-4670-BDF2-13BF601E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396D9-5690-49AF-94D1-B7C525A5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336EC-6BB0-46FF-9BEC-F5178114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EF598-A8F6-42C1-93D7-B93E3CD5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C6820-6F96-4CD8-92DE-1AF64379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1429-366C-4EB3-A479-F85B9EF3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39A5A-20F4-4FBE-905E-A3EEA691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8F0D2-C3FC-436E-B51C-81606BA8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FB33D-8D7E-49CA-8FD5-F01CE4EC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4CBA7-76BD-4AC8-82BA-30C65916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4F72F-449B-498E-9792-CADC851B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B8152-ABA2-46E9-95AC-D5295BCC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FD5D6-CE52-46B2-8251-B3F36C9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54D41-EDB7-42AF-81A2-AF9F4F41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44F9F-4CE8-4A52-8BD3-AB9E7571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A4F77-7AC1-4DD2-BB76-EE455552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3D79-579B-48A8-886A-25431EED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385B5-59D1-40D0-ABF1-6177B422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E9093-91DF-4761-B3C2-73CA5EB2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850C7-163C-427D-A98D-EBD0A752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D3DEE-7130-4A91-9A07-F4E11B8C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5FCCF6-4F23-4A1D-86A1-3863709C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F2B61-9CD9-47E2-AC8A-32D80CBE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6E1187-FFCE-4996-A65D-91E66497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EB8A97-DAD2-4CD4-B2D0-D035ADFF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0CC224-5DA1-417A-BECB-755FC468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1AE91-CE93-4FF6-A7EF-AD007B20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3471-3731-431B-97E8-CF8EFAD6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511323-5EB2-413C-A69C-FBF2ED3D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260B0-7ECB-4B16-90A4-323B600B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5A306-08E3-4AA1-9108-06D6B5FD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1DCEBA-8C92-4E83-80E1-A027268C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24319-AA0C-40C9-8212-4A9F7EB0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9383E8-F4DA-4360-90E9-A1F668EB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17744-1230-4392-AF24-31E29823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D78DC-16A9-45A0-9EED-82A836E2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D159FB-5AAF-4BAC-BC70-6A700EB7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1BBDB-EFEC-4CBB-9507-89634942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B28-22F4-4BBE-A1AF-BA7961A8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D3D3-D9DB-4E11-9091-FB7621DB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0A5FD-C4CE-4EFB-BBC0-475BEB35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855B22-1773-4753-8D9C-0F24BD72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EFE9E5-D0B4-4CC5-A484-3983D891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DC946-A681-4245-8119-4740D8BB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18DEC-5571-4F13-B286-3C99258E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1CF343-A702-4A79-BC47-E38046A8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33ACB6-48FD-442C-A9C2-AF376068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2A4C4-20C8-43CE-B26A-2D4F84F6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6AEC13-4D57-4732-A87A-58130555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7D09DC-9080-4E00-8364-88A132CD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7F03-D49B-48B8-AF96-454E8E2B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B745F-EBF5-43BC-A979-5861643B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3FFB9-6170-46C5-98DC-C07B4BED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EC8DB8-7151-4FCB-8ADA-52D31F20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2E50CF-73E0-4938-A35F-F59AAC15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9D5E6-011D-4B12-ACB3-1B425246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AEAA4-4ED0-4534-96B8-5DE62088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A62C9F-7C27-48A0-A492-84A768CF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1430EB-4821-4668-B8E2-4020D8B4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84327-3809-4FD1-A0E5-4AA30755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9A6F7-D89F-4E68-9A4E-8336F1D9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9554-9293-4001-A48E-5F43B500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4F7AA-1787-4D31-BA99-AE04C632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A106CC-826D-4481-8AAF-1BE8025B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EE4A4-739A-4125-B40E-D9F403F8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B891C-C292-4301-B019-5E9CD71A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716887-F895-4704-B6B4-FA7DFDF7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66FD8F-D7B6-42A5-92E2-E1B1C49E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BF5C2E-04B2-469F-A784-B4EE36E6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38B21-3671-489D-8D8D-C7F3EFF6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EF014-A8AA-4FE5-988C-C0FE76F9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A333A-6DAE-4F48-81DD-4F0924A0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345A-3FAC-4780-86BF-2E2F0149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4BFE62-69E2-4E2C-864C-1895FE1B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09725E-AE06-40F1-91F1-45AEC127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306A19-8A51-4E77-A4C9-1E5B90DF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99B7EA-A53E-4876-B2E3-59A2B480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7965BE-01B2-4179-B219-F20DDD1A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AE912-E653-4235-B5BD-C8BC6F3B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829B9B-17DE-4EC0-8867-E2774CC9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F36E03-F614-4704-B075-69E3BFC5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811B58-213A-4B72-88C9-5AD7BF0C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12FB51-94A7-47D1-B056-D0DBEC72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A05A-A584-4E9D-AD01-3AE59FD6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407A0-D7B8-476E-96BF-9F3009F5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39CADE-7A4F-41AC-89A8-876F56B0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F0B288-0700-4D14-9CB3-F90137B5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98DFD0-E1D0-4DC3-99E8-245F225E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93ABAB-5972-4F59-A3CC-C5185FA2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0C32DE-BBEB-4913-9F06-4A1FA27F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C46968-CE37-442E-9668-0AB97FF1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1C572D-C8B6-4DE7-8848-35E75749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2DC434-B69E-4084-B1B0-FC172635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072E4-3833-4456-AF09-C16CE2DB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4325-8181-40D3-862C-3DAD32A8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D1DD77-5730-4A7F-AE35-5D0FDACF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A0B25E-754C-4691-B0B5-EB91DE12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8607A-57AA-408D-A101-772B225C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241F7-2E7B-4338-B286-02E79F90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11525-7545-404A-81A6-314B8EFD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0C97-4A94-4A9E-9E58-FA6CEC17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FFBEE-63F6-4B20-BA09-4AC5DEFE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73F-6D39-4489-A1F1-0AF448D9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6D4A-C68F-4A65-A77D-BD2CFDFC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1949E-CA8C-41B3-9021-5A4864A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77D0-04B0-4806-9B46-214E190F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C006-04FB-4D7A-8167-5D353802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B1E9-7256-4E3A-A516-EC6416AA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C0C15-61D3-41CA-BD00-4CD5ABBB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C839-2596-4177-A069-B984193B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9EDEB-3F5D-4EF4-9AE5-54961CB6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B9B80-55EF-4698-92CB-E771802B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0FF5-75AF-46A9-B52E-07CBB829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655-1BA8-4822-88EA-6783DD7B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7119C-C1F9-4E82-9424-BAEEA948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0934-7953-4D00-9DB8-985A82C8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81310-30DE-498C-A5AA-61595382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2C2B4-3CD9-451A-9CA7-487FC74D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41CB2-E0B9-4F7D-88FC-3D57D5A8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87EB6-449D-443F-BFF6-BE50CB59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D564F-BD9E-4E04-986E-44D10D00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9298B-E915-4267-96DB-12635665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8924F-EAF3-48A8-905D-B66ABF8F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4E685-77C3-449E-A177-DDE49229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0F8-005A-4573-8D0D-D31BA1F0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E183B-A35B-4F6F-82B0-18786B68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2F37B-2D5A-4526-BFB1-00850CB7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7C2A4-B9D0-4057-B9C5-DBA6F8C9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8E5B9-635F-4CCE-8CA4-98CD8AE7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78B8E-1D86-4882-931E-3F976554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5132E-2570-4500-9A1C-98FD4F5E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A884A-438D-4906-AAE9-3B0958EB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332C7-378A-4AE2-B05A-B5B6C9BB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24CAA-CF02-4127-A244-10BA32CF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06723-C047-45A7-A5B1-31C078C9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556-2F29-44BC-B64F-DDB79876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75C8-CB10-4CB6-8564-19ADD176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20098-5015-46A5-8AF2-7C02CD19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91305-C9D0-497F-AED3-773C239A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F9536-1F43-4143-B81F-7A89D735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D288F-AD4D-4186-98A1-6B82DEE9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1573E-11B3-4A3C-92F0-DED420E4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E9E5B-EA1F-44FC-BBE5-5E4D692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11241-337D-4B43-AB33-C1637F23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CD93D-B345-4AE7-98BB-78216986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186C1-336B-470F-85EB-4307DADE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BDC-7AC7-4B0E-BECF-AF6CCB5B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E17AA-FF85-44FB-8E01-9134D927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CEA3D-9138-4799-95EA-151952A5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7F559-24F1-4BAD-8449-C152C35C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7D593-CF9E-41B1-B67D-1A48C569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15343-5F1A-4AE7-98E4-23674608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23BCC-EA64-46BC-84DB-E5D78523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34E8B-054C-4C64-92F5-E83C0834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03EDF-044F-4F84-B295-A1617F95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9DE92-2ACB-4FC5-8807-A135E7E1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57AAF-B319-47D6-9B1A-8F500292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D6F-1CDC-45A4-83AF-0D94FE89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426C0-5215-4692-A147-518F4D05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B987-39D5-429A-B0D9-6244ADD9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CD382-7CFA-4C1C-93FC-F226E22C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23C95-0DCB-4D46-9944-62890BB5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27485-536F-4078-AF50-D2662F7C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8F7EA-8A98-4B21-B1FD-B7214863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3E3BA-A309-4BEC-8ABC-D9823FBB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F411A-B8A1-493C-93D9-58A18547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D3974-41A2-47E6-8E11-4D871682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CFD39-4DF1-40A9-9588-5CCDC423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45F-F566-4D0C-B240-8F4FA112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34531-1B51-4B9E-9826-9EC45F92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CED80-9636-4BE8-83CF-91FD68E4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99B6B-8C27-4FF1-9082-40CE19C8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FB600-60BC-4B9D-996B-EA68C333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21867-9ECB-4F01-AF4E-CDD5C9B3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0A280-8E6C-4F32-8BDC-822DD375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EEC3A-6480-45AE-87D9-D9313B75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BC57D-D695-4DE4-9BF8-2C3140D4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C0E2F-D9B4-4B4D-83DF-9917F50F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997BB-BC52-4CB2-99B9-39DBF28C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2339-F720-4A90-A33D-F6981C8344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D5F8-D56C-49D9-9D98-57F90419A6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0C5A-631D-4761-BE7B-BA1B76133A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B30A-6AA2-4503-AC9C-B905575234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B7D8-9ACD-4535-BDF4-64C2AAFEE3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1806-90DC-4321-B138-625D54882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5021-B0CA-4893-9A96-B618D7797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D7AD-3CBD-45AB-AFFF-6712D109E7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F8A7-64B7-4D42-B955-E640EB3FF7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2D72-5183-4DC6-9150-F79E52819E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50D0-32DA-467C-BB30-162C6D0F60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B5AB-61CE-4A79-BD87-3073895063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7495-7AB4-42FA-AE40-28650CAB3F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534E-68E1-4D16-913D-4A20369717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7B2E-416C-426B-9988-F7BFF0F544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0DBD-8959-491E-B840-9AFD30E2D7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EE59-7A71-4B4A-A209-74C1B20794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AE7A-9569-486A-9D00-DC02D9B973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B68D-2F6B-48C5-83AD-0B3AC0A0D2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741E-1571-4DD1-98BE-B94A435A78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BC27-E1AB-4807-9A92-B1524C98EC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913B-25EB-4F31-A00C-54FAE40276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5C20-0FAB-47EA-9097-A0B43DC8E5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2CC5-916A-489A-87F4-58D9D9E973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D102-E1DC-47BB-84F3-80F59CB841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8FF9-42A7-4E0B-8778-01F325CDCC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E71D-81A7-42E6-B6F2-0F38CE9995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3233-3DDF-4DCC-9AB2-4DC3913EC1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783C-125B-4D17-B183-00DACFE933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A6D8-0277-4F82-A2D4-71F9817041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BA24-40E7-4966-B80B-BE2D7238AB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BB96-8E75-4F23-A82C-9DD5678302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CD8C-0F79-4021-A4F7-A6BB82C562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2852-9DBA-4775-A2FC-3F24F8B155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EC43-74AE-4102-B030-7B6A2CA2A9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A2A9-7BEB-4C85-82B8-76C4EF920C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0471-2899-4559-AA86-BA0443C33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8D7C-04F5-4383-B39B-B309DF1CDE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1799-C9FD-41FF-B661-C47FCC162E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5E15-4AE1-42DF-86B7-F2B0248840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33680" y="2962440"/>
            <a:ext cx="587664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69633" descr=""/>
          <p:cNvPicPr/>
          <p:nvPr/>
        </p:nvPicPr>
        <p:blipFill>
          <a:blip r:embed="rId1"/>
          <a:stretch/>
        </p:blipFill>
        <p:spPr>
          <a:xfrm>
            <a:off x="266760" y="585720"/>
            <a:ext cx="86104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68609" descr=""/>
          <p:cNvPicPr/>
          <p:nvPr/>
        </p:nvPicPr>
        <p:blipFill>
          <a:blip r:embed="rId1"/>
          <a:stretch/>
        </p:blipFill>
        <p:spPr>
          <a:xfrm>
            <a:off x="585720" y="2771640"/>
            <a:ext cx="7972560" cy="13147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684360" y="2838600"/>
            <a:ext cx="813564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813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52360" y="1181160"/>
            <a:ext cx="8639280" cy="4495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877080" y="508464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09480" y="1281240"/>
            <a:ext cx="7925040" cy="4295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6300720" y="2060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4643280" y="494172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8373" descr=""/>
          <p:cNvPicPr/>
          <p:nvPr/>
        </p:nvPicPr>
        <p:blipFill>
          <a:blip r:embed="rId1"/>
          <a:stretch/>
        </p:blipFill>
        <p:spPr>
          <a:xfrm>
            <a:off x="614520" y="2014560"/>
            <a:ext cx="7914960" cy="28288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2050920" y="4221000"/>
            <a:ext cx="122580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1225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7352" descr=""/>
          <p:cNvPicPr/>
          <p:nvPr/>
        </p:nvPicPr>
        <p:blipFill>
          <a:blip r:embed="rId1"/>
          <a:stretch/>
        </p:blipFill>
        <p:spPr>
          <a:xfrm>
            <a:off x="276120" y="781200"/>
            <a:ext cx="8591760" cy="52956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900000" y="462456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684360" y="5300640"/>
            <a:ext cx="7993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6324" descr=""/>
          <p:cNvPicPr/>
          <p:nvPr/>
        </p:nvPicPr>
        <p:blipFill>
          <a:blip r:embed="rId1"/>
          <a:stretch/>
        </p:blipFill>
        <p:spPr>
          <a:xfrm>
            <a:off x="290520" y="1147680"/>
            <a:ext cx="8562960" cy="4562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971640" y="5013360"/>
            <a:ext cx="7416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5300" descr=""/>
          <p:cNvPicPr/>
          <p:nvPr/>
        </p:nvPicPr>
        <p:blipFill>
          <a:blip r:embed="rId1"/>
          <a:stretch/>
        </p:blipFill>
        <p:spPr>
          <a:xfrm>
            <a:off x="281160" y="857160"/>
            <a:ext cx="8581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4276" descr=""/>
          <p:cNvPicPr/>
          <p:nvPr/>
        </p:nvPicPr>
        <p:blipFill>
          <a:blip r:embed="rId1"/>
          <a:stretch/>
        </p:blipFill>
        <p:spPr>
          <a:xfrm>
            <a:off x="604800" y="880920"/>
            <a:ext cx="7934400" cy="509616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4277" descr=""/>
          <p:cNvPicPr/>
          <p:nvPr/>
        </p:nvPicPr>
        <p:blipFill>
          <a:blip r:embed="rId2"/>
          <a:stretch/>
        </p:blipFill>
        <p:spPr>
          <a:xfrm>
            <a:off x="1152360" y="2376360"/>
            <a:ext cx="6953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2231" descr=""/>
          <p:cNvPicPr/>
          <p:nvPr/>
        </p:nvPicPr>
        <p:blipFill>
          <a:blip r:embed="rId1"/>
          <a:stretch/>
        </p:blipFill>
        <p:spPr>
          <a:xfrm>
            <a:off x="266760" y="1481040"/>
            <a:ext cx="8610480" cy="3895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032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37:5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